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5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C4F-1AB0-4C47-A909-898B724B56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58C-FB8D-4B93-B921-7AE3F592E52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E95-6625-47CC-8DD1-C8502745A4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1063-8A9B-41CA-BD24-C49FF417D24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B23-1622-4A19-A826-CD2247816B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D09-5F18-4B43-AC24-7296529528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2ABB-E44A-42CC-8C7A-B7367E88D4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F239-CD28-480A-9D14-6DD5EAA90EF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B12B-C8FD-4C28-BA08-0F1CC9B486C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35E6-0B22-441C-B14E-91A6B87A416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5B1-EB32-4868-86A7-C1FE0D1E5C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31BC-D75E-4630-847F-AB39F13B9E9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2F9-38CC-442F-BE63-6F57AFFF6F8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382-411A-4FF0-A184-8D14311F2A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F889-ECFF-4E18-A98A-A6CA7F42094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BB9-3526-4E8E-B6DE-B46F10A781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DD57-6E03-4E76-8F1C-FE9E8497860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443-D6C4-4A19-9A68-4CBB0D9CF6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1AF-94E6-4E46-9034-3800EE9544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B3C-7529-479A-B138-B1C9DDC34A1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22F-41F4-419A-B73C-B58DFF3E704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C7B2-428B-4C83-8034-8D16FEC341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BE80-4187-4A05-83A7-74F6EBE6303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4773-840B-41D9-A5FC-070C6B03C30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A0A-97BC-4AB9-875C-E1D5A36AE18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942-C89F-414F-ACB5-3C5286187E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B67-3624-4888-B2B7-7CEE809B79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C29-B96C-4B5B-9F03-E4BE9BB37FA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925-43AE-40E7-BFCF-F0EDACDA41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6BBD-3081-41AF-972A-37FE08136EE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DA1-00BA-48DC-9F09-7B7A919DCB0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20C-CE05-4041-B096-ED42F075949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07D-5C26-49F8-BF4E-6060BCFF9F6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66E4-3291-4EAE-B727-AD36DF4A20B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0A0-36F9-4882-990F-179E3D1FC80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509-9652-4B0C-A6EE-2DD1EC70E5F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FAE-4629-4354-9856-5825E8E71E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725-9F42-41BA-99F1-79D9A39358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393-1F1A-4A87-95BC-90B4F796B95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805-2CDD-4E7F-918D-844ACA852A8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EA4B-418A-4624-ABB4-4D75D305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4854-369B-4DED-801D-2BA0D16F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EBCD-96CB-480B-B20A-CA3BB9E1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237A-AE8C-4FE0-A549-57FFCD44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02E5-328C-405B-96A3-51F0E230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240-D564-4306-A89E-4920E693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7174-A3B0-4E9F-B630-7D0733D6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16C2-8CC4-4C68-B880-83C7E970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965-41AD-4746-B18A-0EF1A13E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DC3B-A693-4254-B850-9341A5C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EAA-5897-4696-95A9-61A2900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1F70-6F67-4E49-8602-60F9416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85C-6505-436F-8D71-3FFE32D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A070-928E-42F4-BEAA-F554B43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7D6-51E8-46CB-8EAA-4F59AAA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129-300B-417E-907E-4B083EFD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0298-C639-4ACA-A449-EBE8B6F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59C8-DF67-48CA-BCC3-0D670ED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13A1-D6EA-417F-A9E2-71B4A6F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7D7F-D419-4FF1-94F7-3278DDBD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B0FD-2236-4908-92E4-893A7A0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3CEC-3932-400A-BE83-B75A3A7F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BD57-9A0E-41FE-B0D5-D126DE73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8CA0-8009-41B0-8E58-2F929F2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64A-3948-4FC9-9BA7-DBE2A2D5E6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961C-2436-43E9-8610-9E535ACE71C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nerg&#237;a" TargetMode="External"/><Relationship Id="rId2" Type="http://schemas.openxmlformats.org/officeDocument/2006/relationships/hyperlink" Target="http://es.wikipedia.org/wiki/Adenos&#237;n_trifosfato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ffffff"/>
                </a:solidFill>
                <a:latin typeface="Arial"/>
              </a:rPr>
              <a:t>Tema 4: Anatomía y fisiología del Aparato Respiratorio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[respiratory_labeled.jpg]"/>
          <p:cNvPicPr/>
          <p:nvPr/>
        </p:nvPicPr>
        <p:blipFill>
          <a:blip r:embed="rId1"/>
          <a:stretch/>
        </p:blipFill>
        <p:spPr>
          <a:xfrm>
            <a:off x="250920" y="3500280"/>
            <a:ext cx="2793960" cy="33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17100"/>
          <p:cNvPicPr/>
          <p:nvPr/>
        </p:nvPicPr>
        <p:blipFill>
          <a:blip r:embed="rId2"/>
          <a:stretch/>
        </p:blipFill>
        <p:spPr>
          <a:xfrm>
            <a:off x="2987640" y="3789360"/>
            <a:ext cx="2913120" cy="2330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POC"/>
          <p:cNvPicPr/>
          <p:nvPr/>
        </p:nvPicPr>
        <p:blipFill>
          <a:blip r:embed="rId3"/>
          <a:stretch/>
        </p:blipFill>
        <p:spPr>
          <a:xfrm>
            <a:off x="5796000" y="3933720"/>
            <a:ext cx="2857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bo musculo-cartilaginoso que comunica la faringe con la tráqu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delante de la fari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o por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eso hi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nueve cartílagos; los principales son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ric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artílago 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forma una prominencia en el cuello, más prominente en el hombre, llamad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nuez de Adá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1767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tiene forma de lengü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rante l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deglu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ierra la entrada a la laringe para impedir que los alimentos entren en las vías respir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ntro de la laringe se encuentran dos pares de repliegues, l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uerdas voc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n un espacio triangular llamado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glo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laringe_seccion"/>
          <p:cNvPicPr/>
          <p:nvPr/>
        </p:nvPicPr>
        <p:blipFill>
          <a:blip r:embed="rId1"/>
          <a:stretch/>
        </p:blipFill>
        <p:spPr>
          <a:xfrm>
            <a:off x="4356000" y="549360"/>
            <a:ext cx="4686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8560" y="765000"/>
            <a:ext cx="410544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ay dos pares de cuerdas vocales,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fals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superi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verdade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inferi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inferiores pueden vibrar al pasar el aire y producir sonidos, que con la boca y la lengua son transformados en palab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ensión de las cuerd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odifica el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to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amaño de la l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termina el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timbr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laringe_superior"/>
          <p:cNvPicPr/>
          <p:nvPr/>
        </p:nvPicPr>
        <p:blipFill>
          <a:blip r:embed="rId1"/>
          <a:stretch/>
        </p:blipFill>
        <p:spPr>
          <a:xfrm>
            <a:off x="179280" y="2093760"/>
            <a:ext cx="48243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1773360"/>
            <a:ext cx="3429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ráque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 un tubo  de 13 cm de longitud y 2 de diáme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 delante del esóf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ormado por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anillos cartilaginoso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ivide en d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bronqui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que penetran en los pulmones, y siguen dividiéndose formando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árbol bronqu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ás finos se llama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bronquiol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terminan en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alvéol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8" descr="Traquea_Bronquios"/>
          <p:cNvPicPr/>
          <p:nvPr/>
        </p:nvPicPr>
        <p:blipFill>
          <a:blip r:embed="rId1"/>
          <a:srcRect l="0" t="20778" r="0" b="0"/>
          <a:stretch/>
        </p:blipFill>
        <p:spPr>
          <a:xfrm>
            <a:off x="250920" y="1844640"/>
            <a:ext cx="4971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622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tracto respiratorio está tapizado por u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telio cilíndrico pseudoestratificado cili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las células ciliadas ha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élulas caliciform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cretoras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ovimientos ciliares van recogiendo las bacterias y las otras partículas capturadas por la mucosa y las trasladan hacia la garganta, desde donde serán expulsadas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cilios_pulmones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490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traquea_epitelio"/>
          <p:cNvPicPr/>
          <p:nvPr/>
        </p:nvPicPr>
        <p:blipFill>
          <a:blip r:embed="rId2"/>
          <a:stretch/>
        </p:blipFill>
        <p:spPr>
          <a:xfrm>
            <a:off x="4788000" y="3278160"/>
            <a:ext cx="4105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 órganos de forma cónica, alojados en la caja torá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recho es más grande y tien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parados por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isur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izquierdo tiene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pulmones"/>
          <p:cNvPicPr/>
          <p:nvPr/>
        </p:nvPicPr>
        <p:blipFill>
          <a:blip r:embed="rId1"/>
          <a:stretch/>
        </p:blipFill>
        <p:spPr>
          <a:xfrm>
            <a:off x="250920" y="1857240"/>
            <a:ext cx="511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bronquios, las arterias y las venas pulmonares entran en cada pulmón a través d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hil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continúan dividiénd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bronquiolos terminan en pequeñas vesículas llamad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alvéo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lvéolos están rodeados por una red de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apilares sanguíne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gases difunden entr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pulmon4"/>
          <p:cNvPicPr/>
          <p:nvPr/>
        </p:nvPicPr>
        <p:blipFill>
          <a:blip r:embed="rId1"/>
          <a:stretch/>
        </p:blipFill>
        <p:spPr>
          <a:xfrm>
            <a:off x="3851280" y="3517920"/>
            <a:ext cx="403380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alveo2"/>
          <p:cNvPicPr/>
          <p:nvPr/>
        </p:nvPicPr>
        <p:blipFill>
          <a:blip r:embed="rId2"/>
          <a:stretch/>
        </p:blipFill>
        <p:spPr>
          <a:xfrm>
            <a:off x="5292720" y="476280"/>
            <a:ext cx="3851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SCN0142"/>
          <p:cNvPicPr/>
          <p:nvPr/>
        </p:nvPicPr>
        <p:blipFill>
          <a:blip r:embed="rId1"/>
          <a:stretch/>
        </p:blipFill>
        <p:spPr>
          <a:xfrm>
            <a:off x="1763640" y="1413000"/>
            <a:ext cx="6913800" cy="5182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584676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cción longitudinal de pulmón de cordero. Árbol bronqu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leura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3280" y="198108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pulmones están recubiertos por una membrana doble: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leura parie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leura visc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ambas hay un líquido lubricante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líquido ple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pulmon_pleuras"/>
          <p:cNvPicPr/>
          <p:nvPr/>
        </p:nvPicPr>
        <p:blipFill>
          <a:blip r:embed="rId1"/>
          <a:stretch/>
        </p:blipFill>
        <p:spPr>
          <a:xfrm>
            <a:off x="250920" y="1987560"/>
            <a:ext cx="6121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0" descr="inspir-espir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El aparat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ías respir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Fosas nas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ráque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Bronqui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Bronquiol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aparato_respiratorio_adams"/>
          <p:cNvPicPr/>
          <p:nvPr/>
        </p:nvPicPr>
        <p:blipFill>
          <a:blip r:embed="rId1"/>
          <a:srcRect l="0" t="0" r="0" b="5905"/>
          <a:stretch/>
        </p:blipFill>
        <p:spPr>
          <a:xfrm>
            <a:off x="3276720" y="1789200"/>
            <a:ext cx="56512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arámetros respiratori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pulmonar to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una inspiración forzada. 6 l en hombres, 4,5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vi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condiciones de máximo esfuerzo. 4,5 l en hombres, 3,2 l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resid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ire que queda en los alveolos tras la espiración. Alrededor de 1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de ventilación o capacidad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spiración normal. Unos 500 ml, de los que llegan a los alvéolos 350 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Frecuencia ventil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2 – 18 por min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406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ene lugar por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 los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roduce por las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diferencias de presión parci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tre el alvéolo y la sangre, para cada uno de los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presión parci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propor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su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oncentr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una mezcla de </a:t>
            </a: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" descr="intercambio_gases"/>
          <p:cNvPicPr/>
          <p:nvPr/>
        </p:nvPicPr>
        <p:blipFill>
          <a:blip r:embed="rId1"/>
          <a:stretch/>
        </p:blipFill>
        <p:spPr>
          <a:xfrm>
            <a:off x="5351400" y="1628640"/>
            <a:ext cx="3792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intercambio_gases_2"/>
          <p:cNvPicPr/>
          <p:nvPr/>
        </p:nvPicPr>
        <p:blipFill>
          <a:blip r:embed="rId1"/>
          <a:stretch/>
        </p:blipFill>
        <p:spPr>
          <a:xfrm>
            <a:off x="900000" y="1916280"/>
            <a:ext cx="7524720" cy="4522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Aire inspirado y espirad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Presión parci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492280"/>
          <a:ext cx="8291520" cy="2190960"/>
        </p:xfrm>
        <a:graphic>
          <a:graphicData uri="http://schemas.openxmlformats.org/drawingml/2006/table">
            <a:tbl>
              <a:tblPr/>
              <a:tblGrid>
                <a:gridCol w="1184400"/>
                <a:gridCol w="1185840"/>
                <a:gridCol w="1184040"/>
                <a:gridCol w="1182960"/>
                <a:gridCol w="1184040"/>
                <a:gridCol w="1185840"/>
                <a:gridCol w="1184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lveo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r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terst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él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e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58"/>
          <p:cNvSpPr/>
          <p:nvPr/>
        </p:nvSpPr>
        <p:spPr>
          <a:xfrm>
            <a:off x="611280" y="4889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 parcial de gases, a nivel del mar, en distintas regiones o partes del organismo [mm Hg]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Alveolo_pulmonar"/>
          <p:cNvPicPr/>
          <p:nvPr/>
        </p:nvPicPr>
        <p:blipFill>
          <a:blip r:embed="rId1"/>
          <a:stretch/>
        </p:blipFill>
        <p:spPr>
          <a:xfrm>
            <a:off x="1763640" y="1844640"/>
            <a:ext cx="6697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97 % es trasportado por l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Hemoglob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formándos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Oxi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hemoglobina contiene cuatro átomos de hierro en forma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ión ferros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 cada uno de ellos se une de forma reversible a una molécula de oxíg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3 % restante se transporta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disuelto en el plasma sanguín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hemoglobina"/>
          <p:cNvPicPr/>
          <p:nvPr/>
        </p:nvPicPr>
        <p:blipFill>
          <a:blip r:embed="rId1"/>
          <a:stretch/>
        </p:blipFill>
        <p:spPr>
          <a:xfrm>
            <a:off x="4572000" y="2060640"/>
            <a:ext cx="4356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hemo"/>
          <p:cNvPicPr/>
          <p:nvPr/>
        </p:nvPicPr>
        <p:blipFill>
          <a:blip r:embed="rId1"/>
          <a:stretch/>
        </p:blipFill>
        <p:spPr>
          <a:xfrm>
            <a:off x="468360" y="2060640"/>
            <a:ext cx="3251160" cy="403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ransporte_oxigeno"/>
          <p:cNvPicPr/>
          <p:nvPr/>
        </p:nvPicPr>
        <p:blipFill>
          <a:blip r:embed="rId2"/>
          <a:stretch/>
        </p:blipFill>
        <p:spPr>
          <a:xfrm>
            <a:off x="3851280" y="1916280"/>
            <a:ext cx="52927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hemoglobina es unas 200 veces más afín por el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nóxido de carbo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r el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CO, se form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oxihemoglob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 color rojo cereza, que no puede transportar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la muerte po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hipox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ero no se presenta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Transporte de dióxido de carbo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65 % se transporta com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ón bicarbon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(H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, disuelto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25 % se transporta unido a la hemoglobina, en forma d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amino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10 % se transporta disuelto directamente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spiración celu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5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ceso metabólico por el que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nutrie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combinan con el oxígeno y se descomponen, liberand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curre en la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mitocondri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las cél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 energía es utilizada para la síntesis de moléculas de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ATP es utilizado para realizar otros procesos: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biosíntesi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contracción muscul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Respiracion celular"/>
          <p:cNvPicPr/>
          <p:nvPr/>
        </p:nvPicPr>
        <p:blipFill>
          <a:blip r:embed="rId1"/>
          <a:stretch/>
        </p:blipFill>
        <p:spPr>
          <a:xfrm>
            <a:off x="250920" y="2349360"/>
            <a:ext cx="4537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El proces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Ventilación pulmon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inspiración y espi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tre el aire y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ransporte de los gas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or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entre la sangre y los tej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Respiración cel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spiración aerob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3272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---&gt; 6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+ 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nergí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AT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023840" y="2997360"/>
            <a:ext cx="77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aceptor de los electr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prendidos de los compuestos orgánicos es 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oxíge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urre en varias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Glucó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xidación d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ácido pirúv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adena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fosforilación oxid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objetivo es mantener los niveles de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dentro de unos márgenes estrechos que permitan la funcionalidad 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demás, la respiración debe integrarse con el sistema digestivo, la emisión de sonidos, la t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istema está formado por unos centros respiratorios, que está distribuidos en varios grupos de neuronas integrados en 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tronco del encéfal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bulbo raquí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Control nervioso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patrón cíclico de respiración se modifica por diversos estímul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Cambios en el pH o en la concentración de CO</a:t>
            </a:r>
            <a:r>
              <a:rPr b="0" lang="es-E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 y de O</a:t>
            </a:r>
            <a:r>
              <a:rPr b="0" lang="es-E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Arial"/>
              </a:rPr>
              <a:t>Situaciones como el ejercicio, emociones, cambios de presión arterial y temperatur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rol nervioso se basa en la presencia de un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mecan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pulmones, vías respiratorias, articulaciones y músculos, que recogen información y la transmiten a los centros respirato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aumenta la concentración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o cuando aumenta la concentración de iones hidrógeno en sangre, se estimulan l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quimi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uerpos carotídeo y aór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la velocidad de la respiración aumenta para eliminar el exceso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movimientos respiratorios se desarrollan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orma in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ero se puede modificar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manera 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tener conexiones con la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rteza cerebr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regulacion_respiracion"/>
          <p:cNvPicPr/>
          <p:nvPr/>
        </p:nvPicPr>
        <p:blipFill>
          <a:blip r:embed="rId1"/>
          <a:stretch/>
        </p:blipFill>
        <p:spPr>
          <a:xfrm>
            <a:off x="468360" y="138744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3"/>
          <p:cNvGrpSpPr/>
          <p:nvPr/>
        </p:nvGrpSpPr>
        <p:grpSpPr>
          <a:xfrm>
            <a:off x="438120" y="1773360"/>
            <a:ext cx="2447640" cy="1881000"/>
            <a:chOff x="438120" y="1773360"/>
            <a:chExt cx="2447640" cy="1881000"/>
          </a:xfrm>
        </p:grpSpPr>
        <p:sp>
          <p:nvSpPr>
            <p:cNvPr id="214" name="Text Box 6"/>
            <p:cNvSpPr/>
            <p:nvPr/>
          </p:nvSpPr>
          <p:spPr>
            <a:xfrm>
              <a:off x="438120" y="1773360"/>
              <a:ext cx="244764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Centr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941040" y="2349720"/>
              <a:ext cx="1390680" cy="13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2"/>
          <p:cNvGrpSpPr/>
          <p:nvPr/>
        </p:nvGrpSpPr>
        <p:grpSpPr>
          <a:xfrm>
            <a:off x="5694480" y="1773360"/>
            <a:ext cx="2886840" cy="2807640"/>
            <a:chOff x="5694480" y="1773360"/>
            <a:chExt cx="2886840" cy="2807640"/>
          </a:xfrm>
        </p:grpSpPr>
        <p:sp>
          <p:nvSpPr>
            <p:cNvPr id="217" name="Text Box 7"/>
            <p:cNvSpPr/>
            <p:nvPr/>
          </p:nvSpPr>
          <p:spPr>
            <a:xfrm>
              <a:off x="5694480" y="1773360"/>
              <a:ext cx="244800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Periféric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9" descr=""/>
            <p:cNvPicPr/>
            <p:nvPr/>
          </p:nvPicPr>
          <p:blipFill>
            <a:blip r:embed="rId2"/>
            <a:stretch/>
          </p:blipFill>
          <p:spPr>
            <a:xfrm>
              <a:off x="5981760" y="2349360"/>
              <a:ext cx="1228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7354440" y="34542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Verdana"/>
                </a:rPr>
                <a:t>a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7374960" y="24919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Verdana"/>
                </a:rPr>
                <a:t>Caróti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3"/>
          <p:cNvSpPr/>
          <p:nvPr/>
        </p:nvSpPr>
        <p:spPr>
          <a:xfrm>
            <a:off x="4788000" y="4581360"/>
            <a:ext cx="4176720" cy="1092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forma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79280" y="4589640"/>
            <a:ext cx="4176720" cy="13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tectan cambios en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 forma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indirecta (por cambios de 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Quimiorrecepto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79280" y="1716120"/>
          <a:ext cx="896472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6120"/>
                    <a:ext cx="89647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Hiperventil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producirse por respirar demasiado, respirar superficialmente, tomar grandes bocanadas de aire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niveles de 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 incrementan y los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isminu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falta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la sangre es detectada por el cerebro, que de inmediato intentará poner remedio a esta situación. Nuestro cuerpo reacciona dificultándonos la respir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descensos del nivel de 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n sangre, producen un aumento del pH de nuestra sangre. Esto produce mareos, palpitaciones, tembl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 equilibrar los niveles de gases se puede respirar unos minutos tapando la nariz y la boca con una bolsa de pa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s_hwkb17_065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cavidades óseas situadas sobre la cavidad bu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odeadas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palad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nas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front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paradas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tabique nas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formado por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vóm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artílago na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s paredes laterales están los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orn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8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unicadas con el exterior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rificios 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f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enos para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glándulas lacrim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nductos lacr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pitelio ciliado con células productoras de 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ucosa que recubre los cornetes se llama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parte superior está la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Contiene las terminaciones de los nervios olfat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fosas_nasales_2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580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tracto_respiratorio_superior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ubo musculoso común a los aparatos digestivo y respira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unica 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boc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l istmo de las fau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esófag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fosas nasales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s coan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laringe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 glot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5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 través de las trompas de Eustaqui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laringe_frontal"/>
          <p:cNvPicPr/>
          <p:nvPr/>
        </p:nvPicPr>
        <p:blipFill>
          <a:blip r:embed="rId1"/>
          <a:srcRect l="0" t="-2517" r="0" b="5051"/>
          <a:stretch/>
        </p:blipFill>
        <p:spPr>
          <a:xfrm>
            <a:off x="1619280" y="757080"/>
            <a:ext cx="7524720" cy="585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0000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4Z</dcterms:created>
  <dc:creator>Daniel</dc:creator>
  <dc:description/>
  <dc:language>en-US</dc:language>
  <cp:lastModifiedBy>Usuario</cp:lastModifiedBy>
  <dcterms:modified xsi:type="dcterms:W3CDTF">2014-11-11T12:17:13Z</dcterms:modified>
  <cp:revision>26</cp:revision>
  <dc:subject/>
  <dc:title>Tema 4: Anatomía y fisiología del Aparato Respiratorio</dc:title>
</cp:coreProperties>
</file>